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7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5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5:51:39.470000000" idx="1">
    <p:pos x="2856" y="53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1B6-5F60-4B18-9CE7-69593C5372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ADD-F791-4388-9921-D71136560C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1DD-46AC-46FF-B74F-659A271E90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A4B4-77DC-42A9-A0B0-9FB753BF01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表内乘法和除法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24080" y="3500280"/>
            <a:ext cx="5193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95680" y="265752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乘法口诀求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1503360" y="2647800"/>
            <a:ext cx="64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一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要到河的对岸去游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河边只有一只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船上每次只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他们至少几次才能全部过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6"/>
          <p:cNvSpPr/>
          <p:nvPr/>
        </p:nvSpPr>
        <p:spPr>
          <a:xfrm>
            <a:off x="1116000" y="267012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船上每次只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还需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把船摆渡回对岸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每次相当于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-1=3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一共需要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-1=2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至少需要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÷3=8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2050920" y="2997360"/>
            <a:ext cx="557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-1=24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÷3=8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次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至少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次才能全部过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 rot="18297600">
            <a:off x="6175080" y="422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1692360" y="1773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5591160" y="26956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1573200" y="24559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中八八六十四只能写出一个除法算式理解有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“八八六十四”只能写出一个除法算式。考虑问题要全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有考虑全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能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写出的算式下结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8"/>
          <p:cNvSpPr/>
          <p:nvPr/>
        </p:nvSpPr>
        <p:spPr>
          <a:xfrm>
            <a:off x="1819440" y="3760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5"/>
          <p:cNvSpPr/>
          <p:nvPr/>
        </p:nvSpPr>
        <p:spPr>
          <a:xfrm rot="18297600">
            <a:off x="6817680" y="4742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0"/>
          <p:cNvSpPr/>
          <p:nvPr/>
        </p:nvSpPr>
        <p:spPr>
          <a:xfrm rot="18297600">
            <a:off x="5376600" y="2898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5776920" y="472932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1692360" y="1773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91160" y="26956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D:\收集\图片\kejianyong\cuipaopao.gif"/>
          <p:cNvPicPr/>
          <p:nvPr/>
        </p:nvPicPr>
        <p:blipFill>
          <a:blip r:embed="rId1"/>
          <a:stretch/>
        </p:blipFill>
        <p:spPr>
          <a:xfrm>
            <a:off x="522360" y="1722600"/>
            <a:ext cx="8521560" cy="4411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2841480" y="800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吹泡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357280" y="1951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÷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98320" y="2220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÷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360440" y="3246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÷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021120" y="3000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÷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408560" y="2179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÷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5805360" y="2789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÷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332240" y="3551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÷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364000" y="44132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÷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39960" y="4770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÷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211480" y="4419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÷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360440" y="522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÷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60520" y="42926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÷7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671480" y="219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76600" y="1935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2433600" y="32637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4103640" y="3017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67148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287880" y="438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2498760" y="5218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4800600" y="479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583320" y="4400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926400" y="2803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5451480" y="3502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5564160" y="219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同侧圆角矩形 2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28"/>
          <p:cNvGrpSpPr/>
          <p:nvPr/>
        </p:nvGrpSpPr>
        <p:grpSpPr>
          <a:xfrm>
            <a:off x="1728720" y="4680000"/>
            <a:ext cx="1224000" cy="657000"/>
            <a:chOff x="1728720" y="4680000"/>
            <a:chExt cx="1224000" cy="657000"/>
          </a:xfrm>
        </p:grpSpPr>
        <p:pic>
          <p:nvPicPr>
            <p:cNvPr id="211" name="Picture 84" descr="p51-1"/>
            <p:cNvPicPr/>
            <p:nvPr/>
          </p:nvPicPr>
          <p:blipFill>
            <a:blip r:embed="rId1"/>
            <a:stretch/>
          </p:blipFill>
          <p:spPr>
            <a:xfrm>
              <a:off x="1728720" y="468000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3"/>
            <p:cNvSpPr/>
            <p:nvPr/>
          </p:nvSpPr>
          <p:spPr>
            <a:xfrm>
              <a:off x="2018880" y="480996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127"/>
          <p:cNvGrpSpPr/>
          <p:nvPr/>
        </p:nvGrpSpPr>
        <p:grpSpPr>
          <a:xfrm>
            <a:off x="3241800" y="4535640"/>
            <a:ext cx="1224000" cy="657000"/>
            <a:chOff x="3241800" y="4535640"/>
            <a:chExt cx="1224000" cy="657000"/>
          </a:xfrm>
        </p:grpSpPr>
        <p:pic>
          <p:nvPicPr>
            <p:cNvPr id="214" name="Picture 86" descr="p51-1"/>
            <p:cNvPicPr/>
            <p:nvPr/>
          </p:nvPicPr>
          <p:blipFill>
            <a:blip r:embed="rId2"/>
            <a:stretch/>
          </p:blipFill>
          <p:spPr>
            <a:xfrm>
              <a:off x="3241800" y="453564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04"/>
            <p:cNvSpPr/>
            <p:nvPr/>
          </p:nvSpPr>
          <p:spPr>
            <a:xfrm>
              <a:off x="3531960" y="465768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26"/>
          <p:cNvGrpSpPr/>
          <p:nvPr/>
        </p:nvGrpSpPr>
        <p:grpSpPr>
          <a:xfrm>
            <a:off x="4826160" y="4535640"/>
            <a:ext cx="1223640" cy="657000"/>
            <a:chOff x="4826160" y="4535640"/>
            <a:chExt cx="1223640" cy="657000"/>
          </a:xfrm>
        </p:grpSpPr>
        <p:pic>
          <p:nvPicPr>
            <p:cNvPr id="217" name="Picture 87" descr="p51-1"/>
            <p:cNvPicPr/>
            <p:nvPr/>
          </p:nvPicPr>
          <p:blipFill>
            <a:blip r:embed="rId3"/>
            <a:stretch/>
          </p:blipFill>
          <p:spPr>
            <a:xfrm>
              <a:off x="4826160" y="4535640"/>
              <a:ext cx="122364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105"/>
            <p:cNvSpPr/>
            <p:nvPr/>
          </p:nvSpPr>
          <p:spPr>
            <a:xfrm>
              <a:off x="5109840" y="464472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122"/>
          <p:cNvGrpSpPr/>
          <p:nvPr/>
        </p:nvGrpSpPr>
        <p:grpSpPr>
          <a:xfrm>
            <a:off x="2305080" y="5543640"/>
            <a:ext cx="1224000" cy="657000"/>
            <a:chOff x="2305080" y="5543640"/>
            <a:chExt cx="1224000" cy="657000"/>
          </a:xfrm>
        </p:grpSpPr>
        <p:pic>
          <p:nvPicPr>
            <p:cNvPr id="220" name="Picture 85" descr="p51-1"/>
            <p:cNvPicPr/>
            <p:nvPr/>
          </p:nvPicPr>
          <p:blipFill>
            <a:blip r:embed="rId4"/>
            <a:stretch/>
          </p:blipFill>
          <p:spPr>
            <a:xfrm>
              <a:off x="2305080" y="554364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06"/>
            <p:cNvSpPr/>
            <p:nvPr/>
          </p:nvSpPr>
          <p:spPr>
            <a:xfrm>
              <a:off x="2587320" y="566244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3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123"/>
          <p:cNvGrpSpPr/>
          <p:nvPr/>
        </p:nvGrpSpPr>
        <p:grpSpPr>
          <a:xfrm>
            <a:off x="3889440" y="5614920"/>
            <a:ext cx="1224000" cy="657000"/>
            <a:chOff x="3889440" y="5614920"/>
            <a:chExt cx="1224000" cy="657000"/>
          </a:xfrm>
        </p:grpSpPr>
        <p:pic>
          <p:nvPicPr>
            <p:cNvPr id="223" name="Picture 88" descr="p51-1"/>
            <p:cNvPicPr/>
            <p:nvPr/>
          </p:nvPicPr>
          <p:blipFill>
            <a:blip r:embed="rId5"/>
            <a:stretch/>
          </p:blipFill>
          <p:spPr>
            <a:xfrm>
              <a:off x="3889440" y="561492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07"/>
            <p:cNvSpPr/>
            <p:nvPr/>
          </p:nvSpPr>
          <p:spPr>
            <a:xfrm>
              <a:off x="4173120" y="573228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6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124"/>
          <p:cNvGrpSpPr/>
          <p:nvPr/>
        </p:nvGrpSpPr>
        <p:grpSpPr>
          <a:xfrm>
            <a:off x="5473800" y="5398920"/>
            <a:ext cx="1224000" cy="657360"/>
            <a:chOff x="5473800" y="5398920"/>
            <a:chExt cx="1224000" cy="657360"/>
          </a:xfrm>
        </p:grpSpPr>
        <p:pic>
          <p:nvPicPr>
            <p:cNvPr id="226" name="Picture 89" descr="p51-1"/>
            <p:cNvPicPr/>
            <p:nvPr/>
          </p:nvPicPr>
          <p:blipFill>
            <a:blip r:embed="rId6"/>
            <a:stretch/>
          </p:blipFill>
          <p:spPr>
            <a:xfrm>
              <a:off x="5473800" y="5398920"/>
              <a:ext cx="1224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08"/>
            <p:cNvSpPr/>
            <p:nvPr/>
          </p:nvSpPr>
          <p:spPr>
            <a:xfrm>
              <a:off x="5763960" y="551808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7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125"/>
          <p:cNvGrpSpPr/>
          <p:nvPr/>
        </p:nvGrpSpPr>
        <p:grpSpPr>
          <a:xfrm>
            <a:off x="6985080" y="5607000"/>
            <a:ext cx="1224000" cy="657000"/>
            <a:chOff x="6985080" y="5607000"/>
            <a:chExt cx="1224000" cy="657000"/>
          </a:xfrm>
        </p:grpSpPr>
        <p:pic>
          <p:nvPicPr>
            <p:cNvPr id="229" name="Picture 90" descr="p51-1"/>
            <p:cNvPicPr/>
            <p:nvPr/>
          </p:nvPicPr>
          <p:blipFill>
            <a:blip r:embed="rId7"/>
            <a:stretch/>
          </p:blipFill>
          <p:spPr>
            <a:xfrm>
              <a:off x="6985080" y="560700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09"/>
            <p:cNvSpPr/>
            <p:nvPr/>
          </p:nvSpPr>
          <p:spPr>
            <a:xfrm>
              <a:off x="7287840" y="572292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9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5"/>
          <p:cNvSpPr/>
          <p:nvPr/>
        </p:nvSpPr>
        <p:spPr>
          <a:xfrm>
            <a:off x="2390760" y="11397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小鸟回家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21"/>
          <p:cNvGrpSpPr/>
          <p:nvPr/>
        </p:nvGrpSpPr>
        <p:grpSpPr>
          <a:xfrm>
            <a:off x="792000" y="4788720"/>
            <a:ext cx="1250640" cy="1330560"/>
            <a:chOff x="792000" y="4788720"/>
            <a:chExt cx="1250640" cy="1330560"/>
          </a:xfrm>
        </p:grpSpPr>
        <p:pic>
          <p:nvPicPr>
            <p:cNvPr id="233" name="Picture 76" descr="p50-5"/>
            <p:cNvPicPr/>
            <p:nvPr/>
          </p:nvPicPr>
          <p:blipFill>
            <a:blip r:embed="rId8"/>
            <a:stretch/>
          </p:blipFill>
          <p:spPr>
            <a:xfrm>
              <a:off x="792000" y="4859280"/>
              <a:ext cx="809640" cy="12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102"/>
            <p:cNvSpPr/>
            <p:nvPr/>
          </p:nvSpPr>
          <p:spPr>
            <a:xfrm rot="16059600">
              <a:off x="950760" y="4987080"/>
              <a:ext cx="1247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4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120"/>
          <p:cNvGrpSpPr/>
          <p:nvPr/>
        </p:nvGrpSpPr>
        <p:grpSpPr>
          <a:xfrm>
            <a:off x="5983200" y="3663360"/>
            <a:ext cx="1786680" cy="1912320"/>
            <a:chOff x="5983200" y="3663360"/>
            <a:chExt cx="1786680" cy="1912320"/>
          </a:xfrm>
        </p:grpSpPr>
        <p:pic>
          <p:nvPicPr>
            <p:cNvPr id="236" name="Picture 82" descr="p50-4"/>
            <p:cNvPicPr/>
            <p:nvPr/>
          </p:nvPicPr>
          <p:blipFill>
            <a:blip r:embed="rId9"/>
            <a:stretch/>
          </p:blipFill>
          <p:spPr>
            <a:xfrm rot="2289600">
              <a:off x="6191280" y="396396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100"/>
            <p:cNvSpPr/>
            <p:nvPr/>
          </p:nvSpPr>
          <p:spPr>
            <a:xfrm rot="982200">
              <a:off x="6174720" y="453168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2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119"/>
          <p:cNvGrpSpPr/>
          <p:nvPr/>
        </p:nvGrpSpPr>
        <p:grpSpPr>
          <a:xfrm>
            <a:off x="7051680" y="2961000"/>
            <a:ext cx="1744200" cy="1785240"/>
            <a:chOff x="7051680" y="2961000"/>
            <a:chExt cx="1744200" cy="1785240"/>
          </a:xfrm>
        </p:grpSpPr>
        <p:pic>
          <p:nvPicPr>
            <p:cNvPr id="239" name="Picture 83" descr="p50-4"/>
            <p:cNvPicPr/>
            <p:nvPr/>
          </p:nvPicPr>
          <p:blipFill>
            <a:blip r:embed="rId10"/>
            <a:stretch/>
          </p:blipFill>
          <p:spPr>
            <a:xfrm rot="3152400">
              <a:off x="7238880" y="3279600"/>
              <a:ext cx="13698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101"/>
            <p:cNvSpPr/>
            <p:nvPr/>
          </p:nvSpPr>
          <p:spPr>
            <a:xfrm rot="2100600">
              <a:off x="7241760" y="3854160"/>
              <a:ext cx="1247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8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118"/>
          <p:cNvGrpSpPr/>
          <p:nvPr/>
        </p:nvGrpSpPr>
        <p:grpSpPr>
          <a:xfrm>
            <a:off x="5364000" y="3240000"/>
            <a:ext cx="1295640" cy="1225800"/>
            <a:chOff x="5364000" y="3240000"/>
            <a:chExt cx="1295640" cy="1225800"/>
          </a:xfrm>
        </p:grpSpPr>
        <p:pic>
          <p:nvPicPr>
            <p:cNvPr id="242" name="Picture 81" descr="p50-2"/>
            <p:cNvPicPr/>
            <p:nvPr/>
          </p:nvPicPr>
          <p:blipFill>
            <a:blip r:embed="rId11"/>
            <a:stretch/>
          </p:blipFill>
          <p:spPr>
            <a:xfrm>
              <a:off x="5364000" y="3240000"/>
              <a:ext cx="1260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5"/>
            <p:cNvSpPr/>
            <p:nvPr/>
          </p:nvSpPr>
          <p:spPr>
            <a:xfrm>
              <a:off x="5411880" y="357984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0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17"/>
          <p:cNvGrpSpPr/>
          <p:nvPr/>
        </p:nvGrpSpPr>
        <p:grpSpPr>
          <a:xfrm>
            <a:off x="3465360" y="2871360"/>
            <a:ext cx="1786680" cy="1899000"/>
            <a:chOff x="3465360" y="2871360"/>
            <a:chExt cx="1786680" cy="1899000"/>
          </a:xfrm>
        </p:grpSpPr>
        <p:pic>
          <p:nvPicPr>
            <p:cNvPr id="245" name="Picture 80" descr="p50-4"/>
            <p:cNvPicPr/>
            <p:nvPr/>
          </p:nvPicPr>
          <p:blipFill>
            <a:blip r:embed="rId12"/>
            <a:stretch/>
          </p:blipFill>
          <p:spPr>
            <a:xfrm rot="2289600">
              <a:off x="3673440" y="317196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94"/>
            <p:cNvSpPr/>
            <p:nvPr/>
          </p:nvSpPr>
          <p:spPr>
            <a:xfrm rot="951000">
              <a:off x="3693600" y="373068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2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6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16"/>
          <p:cNvGrpSpPr/>
          <p:nvPr/>
        </p:nvGrpSpPr>
        <p:grpSpPr>
          <a:xfrm>
            <a:off x="2048040" y="3264120"/>
            <a:ext cx="1725120" cy="1668600"/>
            <a:chOff x="2048040" y="3264120"/>
            <a:chExt cx="1725120" cy="1668600"/>
          </a:xfrm>
        </p:grpSpPr>
        <p:pic>
          <p:nvPicPr>
            <p:cNvPr id="248" name="Picture 79" descr="p50-4"/>
            <p:cNvPicPr/>
            <p:nvPr/>
          </p:nvPicPr>
          <p:blipFill>
            <a:blip r:embed="rId13"/>
            <a:stretch/>
          </p:blipFill>
          <p:spPr>
            <a:xfrm rot="21352800">
              <a:off x="2087280" y="3311640"/>
              <a:ext cx="13698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99"/>
            <p:cNvSpPr/>
            <p:nvPr/>
          </p:nvSpPr>
          <p:spPr>
            <a:xfrm rot="19997400">
              <a:off x="2392920" y="381348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5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Group 115"/>
          <p:cNvGrpSpPr/>
          <p:nvPr/>
        </p:nvGrpSpPr>
        <p:grpSpPr>
          <a:xfrm>
            <a:off x="576360" y="3262320"/>
            <a:ext cx="1741680" cy="1703880"/>
            <a:chOff x="576360" y="3262320"/>
            <a:chExt cx="1741680" cy="1703880"/>
          </a:xfrm>
        </p:grpSpPr>
        <p:pic>
          <p:nvPicPr>
            <p:cNvPr id="251" name="Picture 78" descr="p50-3"/>
            <p:cNvPicPr/>
            <p:nvPr/>
          </p:nvPicPr>
          <p:blipFill>
            <a:blip r:embed="rId14"/>
            <a:stretch/>
          </p:blipFill>
          <p:spPr>
            <a:xfrm>
              <a:off x="576360" y="3262320"/>
              <a:ext cx="135720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Rectangle 98"/>
            <p:cNvSpPr/>
            <p:nvPr/>
          </p:nvSpPr>
          <p:spPr>
            <a:xfrm rot="19010400">
              <a:off x="935640" y="37731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4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6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oup 114"/>
          <p:cNvGrpSpPr/>
          <p:nvPr/>
        </p:nvGrpSpPr>
        <p:grpSpPr>
          <a:xfrm>
            <a:off x="7587000" y="1897200"/>
            <a:ext cx="839520" cy="1260360"/>
            <a:chOff x="7587000" y="1897200"/>
            <a:chExt cx="839520" cy="1260360"/>
          </a:xfrm>
        </p:grpSpPr>
        <p:pic>
          <p:nvPicPr>
            <p:cNvPr id="254" name="Picture 77" descr="p50-5"/>
            <p:cNvPicPr/>
            <p:nvPr/>
          </p:nvPicPr>
          <p:blipFill>
            <a:blip r:embed="rId15"/>
            <a:stretch/>
          </p:blipFill>
          <p:spPr>
            <a:xfrm>
              <a:off x="7616880" y="1897200"/>
              <a:ext cx="8096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97"/>
            <p:cNvSpPr/>
            <p:nvPr/>
          </p:nvSpPr>
          <p:spPr>
            <a:xfrm rot="5400000">
              <a:off x="7208280" y="2282040"/>
              <a:ext cx="124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7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1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Group 113"/>
          <p:cNvGrpSpPr/>
          <p:nvPr/>
        </p:nvGrpSpPr>
        <p:grpSpPr>
          <a:xfrm>
            <a:off x="5527440" y="1642680"/>
            <a:ext cx="1786680" cy="1893960"/>
            <a:chOff x="5527440" y="1642680"/>
            <a:chExt cx="1786680" cy="1893960"/>
          </a:xfrm>
        </p:grpSpPr>
        <p:pic>
          <p:nvPicPr>
            <p:cNvPr id="257" name="Picture 75" descr="p50-4"/>
            <p:cNvPicPr/>
            <p:nvPr/>
          </p:nvPicPr>
          <p:blipFill>
            <a:blip r:embed="rId16"/>
            <a:stretch/>
          </p:blipFill>
          <p:spPr>
            <a:xfrm rot="2289600">
              <a:off x="5735520" y="194328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Rectangle 96"/>
            <p:cNvSpPr/>
            <p:nvPr/>
          </p:nvSpPr>
          <p:spPr>
            <a:xfrm rot="933000">
              <a:off x="5743800" y="249948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6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112"/>
          <p:cNvGrpSpPr/>
          <p:nvPr/>
        </p:nvGrpSpPr>
        <p:grpSpPr>
          <a:xfrm>
            <a:off x="4068720" y="2214720"/>
            <a:ext cx="1293840" cy="1236600"/>
            <a:chOff x="4068720" y="2214720"/>
            <a:chExt cx="1293840" cy="1236600"/>
          </a:xfrm>
        </p:grpSpPr>
        <p:pic>
          <p:nvPicPr>
            <p:cNvPr id="260" name="Picture 73" descr="p50-2"/>
            <p:cNvPicPr/>
            <p:nvPr/>
          </p:nvPicPr>
          <p:blipFill>
            <a:blip r:embed="rId17"/>
            <a:stretch/>
          </p:blipFill>
          <p:spPr>
            <a:xfrm>
              <a:off x="4068720" y="2214720"/>
              <a:ext cx="12603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93"/>
            <p:cNvSpPr/>
            <p:nvPr/>
          </p:nvSpPr>
          <p:spPr>
            <a:xfrm>
              <a:off x="4114800" y="25653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0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111"/>
          <p:cNvGrpSpPr/>
          <p:nvPr/>
        </p:nvGrpSpPr>
        <p:grpSpPr>
          <a:xfrm>
            <a:off x="2300400" y="1812960"/>
            <a:ext cx="1724760" cy="1737360"/>
            <a:chOff x="2300400" y="1812960"/>
            <a:chExt cx="1724760" cy="1737360"/>
          </a:xfrm>
        </p:grpSpPr>
        <p:pic>
          <p:nvPicPr>
            <p:cNvPr id="263" name="Picture 74" descr="p50-3"/>
            <p:cNvPicPr/>
            <p:nvPr/>
          </p:nvPicPr>
          <p:blipFill>
            <a:blip r:embed="rId18"/>
            <a:stretch/>
          </p:blipFill>
          <p:spPr>
            <a:xfrm>
              <a:off x="2300400" y="1812960"/>
              <a:ext cx="135720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92"/>
            <p:cNvSpPr/>
            <p:nvPr/>
          </p:nvSpPr>
          <p:spPr>
            <a:xfrm rot="18900000">
              <a:off x="2646720" y="23529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18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Group 110"/>
          <p:cNvGrpSpPr/>
          <p:nvPr/>
        </p:nvGrpSpPr>
        <p:grpSpPr>
          <a:xfrm>
            <a:off x="289440" y="1798560"/>
            <a:ext cx="1706040" cy="1764000"/>
            <a:chOff x="289440" y="1798560"/>
            <a:chExt cx="1706040" cy="1764000"/>
          </a:xfrm>
        </p:grpSpPr>
        <p:pic>
          <p:nvPicPr>
            <p:cNvPr id="266" name="Picture 72" descr="p50-6"/>
            <p:cNvPicPr/>
            <p:nvPr/>
          </p:nvPicPr>
          <p:blipFill>
            <a:blip r:embed="rId19"/>
            <a:stretch/>
          </p:blipFill>
          <p:spPr>
            <a:xfrm>
              <a:off x="649440" y="1798560"/>
              <a:ext cx="13460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91"/>
            <p:cNvSpPr/>
            <p:nvPr/>
          </p:nvSpPr>
          <p:spPr>
            <a:xfrm rot="2782800">
              <a:off x="416520" y="23619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1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7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同侧圆角矩形 59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21554E-007 L 0.17691 0.48612 E">
                                      <p:cBhvr>
                                        <p:cTn id="43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961E-006 L 0.48715 0.50648 E">
                                      <p:cBhvr>
                                        <p:cTn id="44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95005E-006 L 0.06232 0.32956 E">
                                      <p:cBhvr>
                                        <p:cTn id="45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66512E-007 L 0.11632 0.50393 E">
                                      <p:cBhvr>
                                        <p:cTn id="46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4783E-006 L -0.22275 0.46577 E">
                                      <p:cBhvr>
                                        <p:cTn id="46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0564E-006 L 0.09756 0.15657 E">
                                      <p:cBhvr>
                                        <p:cTn id="47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1795E-006 L 0.3427 0.26203 E">
                                      <p:cBhvr>
                                        <p:cTn id="48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9158E-006 L 0.17691 0.29255 E">
                                      <p:cBhvr>
                                        <p:cTn id="488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1619E-006 L -0.18281 0.34066 E">
                                      <p:cBhvr>
                                        <p:cTn id="49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2895E-006 L -0.38316 0.30643 E">
                                      <p:cBhvr>
                                        <p:cTn id="50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0999E-006 L 0.17518 0.06961 E">
                                      <p:cBhvr>
                                        <p:cTn id="50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9676E-006 L -0.16945 0.04163 E">
                                      <p:cBhvr>
                                        <p:cTn id="51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211400" y="1628640"/>
            <a:ext cx="2773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同侧圆角矩形 31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0"/>
          <p:cNvSpPr/>
          <p:nvPr/>
        </p:nvSpPr>
        <p:spPr>
          <a:xfrm>
            <a:off x="1477800" y="51148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÷6=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0"/>
          <p:cNvSpPr/>
          <p:nvPr/>
        </p:nvSpPr>
        <p:spPr>
          <a:xfrm>
            <a:off x="5383080" y="51562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÷8=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900000" y="2279520"/>
            <a:ext cx="3660840" cy="2705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772160" y="2241720"/>
            <a:ext cx="3544920" cy="2705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5"/>
          <p:cNvSpPr/>
          <p:nvPr/>
        </p:nvSpPr>
        <p:spPr>
          <a:xfrm>
            <a:off x="1446120" y="3794040"/>
            <a:ext cx="42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几根火腿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289240" y="571644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8=2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2268360" y="43797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÷6=8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根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同侧圆角矩形 34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g155.jpg" descr="id:2147505689;FounderCES"/>
          <p:cNvPicPr/>
          <p:nvPr/>
        </p:nvPicPr>
        <p:blipFill>
          <a:blip r:embed="rId1"/>
          <a:stretch/>
        </p:blipFill>
        <p:spPr>
          <a:xfrm>
            <a:off x="1116000" y="2135160"/>
            <a:ext cx="7243920" cy="16416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7"/>
          <p:cNvSpPr/>
          <p:nvPr/>
        </p:nvSpPr>
        <p:spPr>
          <a:xfrm>
            <a:off x="2446560" y="16146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去超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1500120" y="513252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罐可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够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52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解决简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求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042920" y="38480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发现问题、提出问题和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41960" y="8110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1116000" y="17733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画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分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分得几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每人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分给几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同侧圆角矩形 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2916360" y="366552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÷5=8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张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2892600" y="454644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÷8=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96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299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Rectangle 17"/>
            <p:cNvSpPr/>
            <p:nvPr/>
          </p:nvSpPr>
          <p:spPr>
            <a:xfrm>
              <a:off x="6028920" y="1519200"/>
              <a:ext cx="2593440" cy="45972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有熟记乘法口诀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才能顺利求出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0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矩形 21"/>
          <p:cNvSpPr/>
          <p:nvPr/>
        </p:nvSpPr>
        <p:spPr>
          <a:xfrm>
            <a:off x="888840" y="4125960"/>
            <a:ext cx="7345440" cy="1068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内除法的求商方法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除法是乘法的逆运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只要想除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除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根据乘法口诀就能顺利计算出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57400" y="1628640"/>
            <a:ext cx="70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，并说说使用的是哪句乘法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95240" y="300420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÷7=      24÷4=      15÷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÷6=      24÷6=      15÷5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3087720" y="29973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5459400" y="30081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7647120" y="30081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7621560" y="410544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5383080" y="41083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3087720" y="410544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1336680" y="508464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七四十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3616200" y="5084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四六二十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6021360" y="506880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三五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1152360" y="252864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   ）二十一   七（   ）五十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（   ）二十四     （   ）五二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（   ）四十         七（   ）四十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157400" y="16286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01132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38308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2027160" y="473220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5646600" y="473220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5119560" y="3635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8"/>
          <p:cNvSpPr/>
          <p:nvPr/>
        </p:nvSpPr>
        <p:spPr>
          <a:xfrm>
            <a:off x="2011320" y="36241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900000" y="1617840"/>
            <a:ext cx="74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小正方体可以摆成几个下面的长方体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R12.EPS" descr="id:2147508977;FounderCES"/>
          <p:cNvPicPr/>
          <p:nvPr/>
        </p:nvPicPr>
        <p:blipFill>
          <a:blip r:embed="rId1"/>
          <a:stretch/>
        </p:blipFill>
        <p:spPr>
          <a:xfrm>
            <a:off x="3755880" y="2349360"/>
            <a:ext cx="1730520" cy="215280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9"/>
          <p:cNvGrpSpPr/>
          <p:nvPr/>
        </p:nvGrpSpPr>
        <p:grpSpPr>
          <a:xfrm>
            <a:off x="5784840" y="2809800"/>
            <a:ext cx="2990880" cy="3276720"/>
            <a:chOff x="5784840" y="2809800"/>
            <a:chExt cx="2990880" cy="3276720"/>
          </a:xfrm>
        </p:grpSpPr>
        <p:sp>
          <p:nvSpPr>
            <p:cNvPr id="86" name="AutoShape 34"/>
            <p:cNvSpPr/>
            <p:nvPr/>
          </p:nvSpPr>
          <p:spPr>
            <a:xfrm>
              <a:off x="5784840" y="2809800"/>
              <a:ext cx="2109600" cy="891000"/>
            </a:xfrm>
            <a:prstGeom prst="wedgeRoundRectCallout">
              <a:avLst>
                <a:gd name="adj1" fmla="val 39370"/>
                <a:gd name="adj2" fmla="val 133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可以用乘法口诀</a:t>
              </a:r>
              <a:r>
                <a:rPr b="0" lang="zh-CN" sz="2400" spc="-1" strike="noStrike">
                  <a:solidFill>
                    <a:srgbClr val="00b0f0"/>
                  </a:solidFill>
                  <a:latin typeface="华文新魏"/>
                  <a:ea typeface="华文新魏"/>
                </a:rPr>
                <a:t>六八四十八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Picture 42" descr="13"/>
            <p:cNvPicPr/>
            <p:nvPr/>
          </p:nvPicPr>
          <p:blipFill>
            <a:blip r:embed="rId2"/>
            <a:stretch/>
          </p:blipFill>
          <p:spPr>
            <a:xfrm>
              <a:off x="7489440" y="4129920"/>
              <a:ext cx="1286280" cy="195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12"/>
          <p:cNvGrpSpPr/>
          <p:nvPr/>
        </p:nvGrpSpPr>
        <p:grpSpPr>
          <a:xfrm>
            <a:off x="469800" y="2981160"/>
            <a:ext cx="2868840" cy="2711520"/>
            <a:chOff x="469800" y="2981160"/>
            <a:chExt cx="2868840" cy="2711520"/>
          </a:xfrm>
        </p:grpSpPr>
        <p:sp>
          <p:nvSpPr>
            <p:cNvPr id="89" name="AutoShape 31"/>
            <p:cNvSpPr/>
            <p:nvPr/>
          </p:nvSpPr>
          <p:spPr>
            <a:xfrm>
              <a:off x="1464480" y="2981160"/>
              <a:ext cx="1874160" cy="496440"/>
            </a:xfrm>
            <a:prstGeom prst="wedgeRoundRectCallout">
              <a:avLst>
                <a:gd name="adj1" fmla="val -48851"/>
                <a:gd name="adj2" fmla="val 312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小正方体拼成了一个长方体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469800" y="390060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1" descr="C:\Users\Administrator\AppData\Roaming\Tencent\Users\781547643\QQ\WinTemp\RichOle\FTNCNO$NC1SILT$KQEBZSSE.png"/>
          <p:cNvPicPr/>
          <p:nvPr/>
        </p:nvPicPr>
        <p:blipFill>
          <a:blip r:embed="rId4"/>
          <a:stretch/>
        </p:blipFill>
        <p:spPr>
          <a:xfrm>
            <a:off x="3132000" y="5030640"/>
            <a:ext cx="3279960" cy="671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5"/>
          <p:cNvSpPr/>
          <p:nvPr/>
        </p:nvSpPr>
        <p:spPr>
          <a:xfrm>
            <a:off x="4135320" y="510840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      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Users\Administrator\AppData\Roaming\Tencent\Users\781547643\QQ\WinTemp\RichOle\4PFKGD(CIX20FZCJ(GM]O1N.png"/>
          <p:cNvPicPr/>
          <p:nvPr/>
        </p:nvPicPr>
        <p:blipFill>
          <a:blip r:embed="rId1"/>
          <a:stretch/>
        </p:blipFill>
        <p:spPr>
          <a:xfrm>
            <a:off x="2976480" y="5037120"/>
            <a:ext cx="3600360" cy="66672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900000" y="1617840"/>
            <a:ext cx="74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小正方体可以摆成几个下面的正方体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9"/>
          <p:cNvGrpSpPr/>
          <p:nvPr/>
        </p:nvGrpSpPr>
        <p:grpSpPr>
          <a:xfrm>
            <a:off x="5867280" y="2995560"/>
            <a:ext cx="3016440" cy="2417760"/>
            <a:chOff x="5867280" y="2995560"/>
            <a:chExt cx="3016440" cy="2417760"/>
          </a:xfrm>
        </p:grpSpPr>
        <p:sp>
          <p:nvSpPr>
            <p:cNvPr id="98" name="AutoShape 34"/>
            <p:cNvSpPr/>
            <p:nvPr/>
          </p:nvSpPr>
          <p:spPr>
            <a:xfrm>
              <a:off x="5867280" y="2995560"/>
              <a:ext cx="2109600" cy="496440"/>
            </a:xfrm>
            <a:prstGeom prst="wedgeRoundRectCallout">
              <a:avLst>
                <a:gd name="adj1" fmla="val 40050"/>
                <a:gd name="adj2" fmla="val 1141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f0"/>
                  </a:solidFill>
                  <a:latin typeface="华文新魏"/>
                  <a:ea typeface="华文新魏"/>
                </a:rPr>
                <a:t>六八四十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13"/>
            <p:cNvPicPr/>
            <p:nvPr/>
          </p:nvPicPr>
          <p:blipFill>
            <a:blip r:embed="rId2"/>
            <a:stretch/>
          </p:blipFill>
          <p:spPr>
            <a:xfrm>
              <a:off x="7597440" y="3456000"/>
              <a:ext cx="1286280" cy="19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2"/>
          <p:cNvGrpSpPr/>
          <p:nvPr/>
        </p:nvGrpSpPr>
        <p:grpSpPr>
          <a:xfrm>
            <a:off x="469800" y="2981160"/>
            <a:ext cx="2868840" cy="2711520"/>
            <a:chOff x="469800" y="2981160"/>
            <a:chExt cx="2868840" cy="2711520"/>
          </a:xfrm>
        </p:grpSpPr>
        <p:sp>
          <p:nvSpPr>
            <p:cNvPr id="101" name="AutoShape 31"/>
            <p:cNvSpPr/>
            <p:nvPr/>
          </p:nvSpPr>
          <p:spPr>
            <a:xfrm>
              <a:off x="1464480" y="2981160"/>
              <a:ext cx="1874160" cy="496440"/>
            </a:xfrm>
            <a:prstGeom prst="wedgeRoundRectCallout">
              <a:avLst>
                <a:gd name="adj1" fmla="val -48851"/>
                <a:gd name="adj2" fmla="val 312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是有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8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小正方体拼成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469800" y="390060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15"/>
          <p:cNvSpPr/>
          <p:nvPr/>
        </p:nvSpPr>
        <p:spPr>
          <a:xfrm>
            <a:off x="3538440" y="5108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   8      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r13.jpg" descr="id:2147508984;FounderCES"/>
          <p:cNvPicPr/>
          <p:nvPr/>
        </p:nvPicPr>
        <p:blipFill>
          <a:blip r:embed="rId4"/>
          <a:stretch/>
        </p:blipFill>
        <p:spPr>
          <a:xfrm>
            <a:off x="3564000" y="2492280"/>
            <a:ext cx="22194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1"/>
          <p:cNvSpPr/>
          <p:nvPr/>
        </p:nvSpPr>
        <p:spPr>
          <a:xfrm>
            <a:off x="1739880" y="2644920"/>
            <a:ext cx="58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大船能坐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小船能坐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条大船的人数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小船的人数相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6" name="矩形 8"/>
          <p:cNvSpPr/>
          <p:nvPr/>
        </p:nvSpPr>
        <p:spPr>
          <a:xfrm>
            <a:off x="1468440" y="29242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首先要算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小船的人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4=2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面有几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2232000" y="32288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6×4=24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÷8=3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条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6:34:44Z</dcterms:created>
  <dc:creator>cuichuanxin</dc:creator>
  <dc:description/>
  <dc:language>en-US</dc:language>
  <cp:lastModifiedBy>ww.xkb1.com</cp:lastModifiedBy>
  <dcterms:modified xsi:type="dcterms:W3CDTF">2016-08-19T07:51:51Z</dcterms:modified>
  <cp:revision>4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